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6.png" ContentType="image/png"/>
  <Override PartName="/ppt/media/image7.png" ContentType="image/png"/>
  <Override PartName="/ppt/media/image34.jpeg" ContentType="image/jpeg"/>
  <Override PartName="/ppt/media/image33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32.jpeg" ContentType="image/jpeg"/>
  <Override PartName="/ppt/media/image36.gif" ContentType="image/gif"/>
  <Override PartName="/ppt/media/image5.png" ContentType="image/png"/>
  <Override PartName="/ppt/media/image28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29.gif" ContentType="image/gif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4BBD-5831-4D6E-B1A3-6A7610E96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C956-707E-4E14-AA1C-CF2D534AF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AD9C-DBD7-4C13-8DCF-EC8098366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A9C4-8C6D-4848-8E15-67DCE5052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B224F-E3B1-4DC2-8F67-B37E8CC8F5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6612-6AAB-4C2E-8B2C-B835A54360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FF239-BFC1-4E21-95BB-8E33560FE3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1E1D-0DC9-4AF3-92A2-626494D1E5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FB0F-314D-47A7-AEEC-4B98A5794D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9F238-BCCD-42DA-9AB0-8E431F298E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48134-56DB-4D24-B975-FA9A71D8F9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804A-137B-4B03-BF39-B849604D0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2B0B-11B3-432B-B4B2-A812CE06C4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405C7-6645-450D-92A6-280AB72861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D7A8-E629-4093-8B99-01F0AAF97F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72499-38C5-4018-916C-95372AA36A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9AEDB-24C3-43ED-8F2E-5CEDDFA356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46C7-12F0-42A3-AAD9-D14858778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B73F-2438-4E0C-85A6-8214E1298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453D-A4E2-47C9-A807-13B34D6DE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B6FA-52CF-4D1F-8B77-F8DACCEC8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BF61-0F19-44BE-94F0-D85D888AB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22FF-1883-446F-843F-B987A2985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5CAA-C277-481A-B7BC-DA85F718A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E1FD2B-2158-4733-8335-792997EE4E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40" name="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" name="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42" name="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" name="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2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476E4-4CD0-4BA1-BFA8-7D1CCF15EE6B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drogen" TargetMode="External"/><Relationship Id="rId2" Type="http://schemas.openxmlformats.org/officeDocument/2006/relationships/hyperlink" Target="http://en.wikipedia.org/wiki/Nitrogen" TargetMode="External"/><Relationship Id="rId3" Type="http://schemas.openxmlformats.org/officeDocument/2006/relationships/hyperlink" Target="http://en.wikipedia.org/wiki/Oxygen" TargetMode="External"/><Relationship Id="rId4" Type="http://schemas.openxmlformats.org/officeDocument/2006/relationships/hyperlink" Target="http://en.wikipedia.org/wiki/Fluorine" TargetMode="External"/><Relationship Id="rId5" Type="http://schemas.openxmlformats.org/officeDocument/2006/relationships/hyperlink" Target="http://en.wikipedia.org/wiki/Chlorine" TargetMode="External"/><Relationship Id="rId6" Type="http://schemas.openxmlformats.org/officeDocument/2006/relationships/hyperlink" Target="http://en.wikipedia.org/wiki/Bromine" TargetMode="External"/><Relationship Id="rId7" Type="http://schemas.openxmlformats.org/officeDocument/2006/relationships/hyperlink" Target="http://en.wikipedia.org/wiki/Bromine" TargetMode="External"/><Relationship Id="rId8" Type="http://schemas.openxmlformats.org/officeDocument/2006/relationships/hyperlink" Target="http://en.wikipedia.org/wiki/Iodine" TargetMode="External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82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82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1244520" y="21718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70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Matter &amp; Change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353960" y="461880"/>
            <a:ext cx="2281320" cy="15256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487680" y="4398840"/>
            <a:ext cx="2133720" cy="20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180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181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280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4" name=""/>
          <p:cNvSpPr/>
          <p:nvPr/>
        </p:nvSpPr>
        <p:spPr>
          <a:xfrm>
            <a:off x="1371600" y="735120"/>
            <a:ext cx="739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914400" y="2133720"/>
            <a:ext cx="78613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 of Chemical Properti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1. Flammabilit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2. Toxicit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3. Reactiv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4. p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C457-FBD7-4717-88A5-550C3209B39C}" type="slidenum">
              <a:t>10</a:t>
            </a:fld>
          </a:p>
        </p:txBody>
      </p:sp>
    </p:spTree>
  </p:cSld>
  <p:transition spd="med">
    <p:diamond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 fill="hold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 fill="hold"/>
                                        <p:tgtEl>
                                          <p:spTgt spid="1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 fill="hold"/>
                                        <p:tgtEl>
                                          <p:spTgt spid="1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 fill="hold"/>
                                        <p:tgtEl>
                                          <p:spTgt spid="1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 fill="hold"/>
                                        <p:tgtEl>
                                          <p:spTgt spid="1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6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287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387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1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Change vs Chemical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089000" y="2255760"/>
            <a:ext cx="75564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Physical Chang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 change in a substance that does not involve a change in the identity of the substance. The substance may look different but it still remains the s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079640" y="4406760"/>
            <a:ext cx="75564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Property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343434"/>
                </a:solidFill>
                <a:latin typeface="Arial"/>
                <a:ea typeface="Arial"/>
              </a:rPr>
              <a:t>a change that occurs when one or more substances change into entirely new substances with different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4792-8B20-4A5F-8BFC-B25BB15E8549}" type="slidenum">
              <a:t>11</a:t>
            </a:fld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dur="indefinite" fill="hold">
                      <p:stCondLst>
                        <p:cond delay="indefinite"/>
                      </p:stCondLst>
                      <p:childTnLst>
                        <p:par>
                          <p:cTn id="2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 fill="hold"/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4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395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396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495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9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838080" y="2149560"/>
            <a:ext cx="78613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Examples of Physical Changes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1. </a:t>
            </a:r>
            <a:r>
              <a:rPr b="1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Change of state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 or phase (such as from solid to liquid)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2. Dissolving a substanc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3. Absorption of water into a towel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4. Crumpling a piece of paper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5. Pulling copper into a thin wire - a change of shape, but not a change of composition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6. Cutting a material such as wood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7. Ripping a piece of tin foil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dur="indefinite" fill="hold">
                      <p:stCondLst>
                        <p:cond delay="indefinite"/>
                      </p:stCondLst>
                      <p:childTnLst>
                        <p:par>
                          <p:cTn id="2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 fill="hold"/>
                                        <p:tgtEl>
                                          <p:spTgt spid="1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 fill="hold"/>
                                        <p:tgtEl>
                                          <p:spTgt spid="1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 fill="hold"/>
                                        <p:tgtEl>
                                          <p:spTgt spid="1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 fill="hold"/>
                                        <p:tgtEl>
                                          <p:spTgt spid="1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dur="indefinite" fill="hold">
                      <p:stCondLst>
                        <p:cond delay="indefinite"/>
                      </p:stCondLst>
                      <p:childTnLst>
                        <p:par>
                          <p:cTn id="3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 fill="hold"/>
                                        <p:tgtEl>
                                          <p:spTgt spid="1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 fill="hold"/>
                                        <p:tgtEl>
                                          <p:spTgt spid="1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 fill="hold"/>
                                        <p:tgtEl>
                                          <p:spTgt spid="1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1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502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503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602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6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219320" y="2057400"/>
            <a:ext cx="740412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 of chemical chang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Burn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anything. (Not Melting or Boil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Mixing an acid with a bas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, producing water and a sal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3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hotosynthesi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a process in which carbon dioxide and water are changed into sugars by pla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4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Decomposi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of organic matter (for example, rotting food, food going bad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 fill="hold"/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dur="indefinite" fill="hold">
                      <p:stCondLst>
                        <p:cond delay="indefinite"/>
                      </p:stCondLst>
                      <p:childTnLst>
                        <p:par>
                          <p:cTn id="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 fill="hold"/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 fill="hold"/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dur="indefinite" fill="hold">
                      <p:stCondLst>
                        <p:cond delay="indefinite"/>
                      </p:stCondLst>
                      <p:childTnLst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 fill="hold"/>
                                        <p:tgtEl>
                                          <p:spTgt spid="1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 fill="hold"/>
                                        <p:tgtEl>
                                          <p:spTgt spid="1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8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609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610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709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3" name=""/>
          <p:cNvSpPr/>
          <p:nvPr/>
        </p:nvSpPr>
        <p:spPr>
          <a:xfrm>
            <a:off x="1371600" y="512640"/>
            <a:ext cx="739152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Evidence of 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Chemical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41200" y="2095560"/>
            <a:ext cx="859788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Can not get back to the original sub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 of 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for example, iron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dish-brown when iron rust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1800" spc="-1" strike="noStrike">
                <a:solidFill>
                  <a:srgbClr val="ff2712"/>
                </a:solidFill>
                <a:latin typeface="Arial"/>
                <a:ea typeface="Arial"/>
              </a:rPr>
              <a:t>Note: Color change is typically a good indication of a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1800" spc="-1" strike="noStrike">
                <a:solidFill>
                  <a:srgbClr val="ff2712"/>
                </a:solidFill>
                <a:latin typeface="Arial"/>
                <a:ea typeface="Arial"/>
              </a:rPr>
              <a:t>change but one should look for other evidence as wel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Release of o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Release/absorption of heat (increase or decrease of temp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Change of form (ie: burning pap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Release /absorption of energy (light or sound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 Formation of gases (bubbles or smoke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 Formation of a precipitate (solid particle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5" name="" descr=""/>
          <p:cNvPicPr/>
          <p:nvPr/>
        </p:nvPicPr>
        <p:blipFill>
          <a:blip r:embed="rId1"/>
          <a:stretch/>
        </p:blipFill>
        <p:spPr>
          <a:xfrm>
            <a:off x="7251840" y="1752480"/>
            <a:ext cx="1839600" cy="2318040"/>
          </a:xfrm>
          <a:prstGeom prst="rect">
            <a:avLst/>
          </a:prstGeom>
          <a:ln w="0">
            <a:noFill/>
          </a:ln>
        </p:spPr>
      </p:pic>
      <p:pic>
        <p:nvPicPr>
          <p:cNvPr id="1716" name="" descr=""/>
          <p:cNvPicPr/>
          <p:nvPr/>
        </p:nvPicPr>
        <p:blipFill>
          <a:blip r:embed="rId2"/>
          <a:stretch/>
        </p:blipFill>
        <p:spPr>
          <a:xfrm>
            <a:off x="6934320" y="454644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dur="indefinite" fill="hold">
                      <p:stCondLst>
                        <p:cond delay="indefinite"/>
                      </p:stCondLst>
                      <p:childTnLst>
                        <p:par>
                          <p:cTn id="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 fill="hold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 fill="hold"/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dur="indefinite" fill="hold">
                      <p:stCondLst>
                        <p:cond delay="indefinite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 fill="hold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dur="indefinite" fill="hold">
                      <p:stCondLst>
                        <p:cond delay="indefinite"/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 fill="hold"/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dur="indefinite" fill="hold">
                      <p:stCondLst>
                        <p:cond delay="indefinite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 fill="hold"/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dur="indefinite" fill="hold">
                      <p:stCondLst>
                        <p:cond delay="indefinite"/>
                      </p:stCondLst>
                      <p:childTnLst>
                        <p:par>
                          <p:cTn id="3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 fill="hold"/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 fill="hold"/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dur="indefinite" fill="hold">
                      <p:stCondLst>
                        <p:cond delay="indefinite"/>
                      </p:stCondLst>
                      <p:childTnLst>
                        <p:par>
                          <p:cTn id="4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 fill="hold"/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dur="indefinite" fill="hold">
                      <p:stCondLst>
                        <p:cond delay="indefinite"/>
                      </p:stCondLst>
                      <p:childTnLst>
                        <p:par>
                          <p:cTn id="4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 fill="hold"/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dur="indefinite" fill="hold">
                      <p:stCondLst>
                        <p:cond delay="indefinite"/>
                      </p:stCondLst>
                      <p:childTnLst>
                        <p:par>
                          <p:cTn id="4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 fill="hold"/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7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718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7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818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2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Examples of Chem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3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1752480" cy="1515960"/>
          </a:xfrm>
          <a:prstGeom prst="rect">
            <a:avLst/>
          </a:prstGeom>
          <a:ln w="0">
            <a:noFill/>
          </a:ln>
        </p:spPr>
      </p:pic>
      <p:pic>
        <p:nvPicPr>
          <p:cNvPr id="1824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1828800" cy="1568520"/>
          </a:xfrm>
          <a:prstGeom prst="rect">
            <a:avLst/>
          </a:prstGeom>
          <a:ln w="0">
            <a:noFill/>
          </a:ln>
        </p:spPr>
      </p:pic>
      <p:pic>
        <p:nvPicPr>
          <p:cNvPr id="1825" name="" descr=""/>
          <p:cNvPicPr/>
          <p:nvPr/>
        </p:nvPicPr>
        <p:blipFill>
          <a:blip r:embed="rId3"/>
          <a:stretch/>
        </p:blipFill>
        <p:spPr>
          <a:xfrm>
            <a:off x="3809880" y="2438280"/>
            <a:ext cx="1905120" cy="1408320"/>
          </a:xfrm>
          <a:prstGeom prst="rect">
            <a:avLst/>
          </a:prstGeom>
          <a:ln w="0">
            <a:noFill/>
          </a:ln>
        </p:spPr>
      </p:pic>
      <p:pic>
        <p:nvPicPr>
          <p:cNvPr id="1826" name="" descr=""/>
          <p:cNvPicPr/>
          <p:nvPr/>
        </p:nvPicPr>
        <p:blipFill>
          <a:blip r:embed="rId4"/>
          <a:stretch/>
        </p:blipFill>
        <p:spPr>
          <a:xfrm>
            <a:off x="3809880" y="43434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827" name="" descr=""/>
          <p:cNvPicPr/>
          <p:nvPr/>
        </p:nvPicPr>
        <p:blipFill>
          <a:blip r:embed="rId5"/>
          <a:stretch/>
        </p:blipFill>
        <p:spPr>
          <a:xfrm>
            <a:off x="6553080" y="24382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1828" name="" descr=""/>
          <p:cNvPicPr/>
          <p:nvPr/>
        </p:nvPicPr>
        <p:blipFill>
          <a:blip r:embed="rId6"/>
          <a:stretch/>
        </p:blipFill>
        <p:spPr>
          <a:xfrm>
            <a:off x="6477120" y="4267080"/>
            <a:ext cx="1981080" cy="1551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dur="indefinite" fill="hold">
                      <p:stCondLst>
                        <p:cond delay="indefinite"/>
                      </p:stCondLst>
                      <p:childTnLst>
                        <p:par>
                          <p:cTn id="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dur="indefinite" fill="hold">
                      <p:stCondLst>
                        <p:cond delay="indefinite"/>
                      </p:stCondLst>
                      <p:childTnLst>
                        <p:par>
                          <p:cTn id="4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dur="indefinite" fill="hold">
                      <p:stCondLst>
                        <p:cond delay="indefinite"/>
                      </p:stCondLst>
                      <p:childTnLst>
                        <p:par>
                          <p:cTn id="4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dur="indefinite" fill="hold">
                      <p:stCondLst>
                        <p:cond delay="indefinite"/>
                      </p:stCondLst>
                      <p:childTnLst>
                        <p:par>
                          <p:cTn id="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dur="indefinite" fill="hold">
                      <p:stCondLst>
                        <p:cond delay="indefinite"/>
                      </p:stCondLst>
                      <p:childTnLst>
                        <p:par>
                          <p:cTn id="4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9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830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831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930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4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219320" y="2133720"/>
            <a:ext cx="74800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men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substance that cannot be broken down into simpler sub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und on the periodic 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6" name="" descr=""/>
          <p:cNvPicPr/>
          <p:nvPr/>
        </p:nvPicPr>
        <p:blipFill>
          <a:blip r:embed="rId1"/>
          <a:stretch/>
        </p:blipFill>
        <p:spPr>
          <a:xfrm>
            <a:off x="1547640" y="3693960"/>
            <a:ext cx="570420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dur="indefinite" fill="hold">
                      <p:stCondLst>
                        <p:cond delay="indefinite"/>
                      </p:stCondLst>
                      <p:childTnLst>
                        <p:par>
                          <p:cTn id="4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938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939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038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2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1371600" y="2209680"/>
            <a:ext cx="73278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t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mallest particle of an elem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4" name="" descr=""/>
          <p:cNvPicPr/>
          <p:nvPr/>
        </p:nvPicPr>
        <p:blipFill>
          <a:blip r:embed="rId1"/>
          <a:stretch/>
        </p:blipFill>
        <p:spPr>
          <a:xfrm>
            <a:off x="3238560" y="2819520"/>
            <a:ext cx="3657600" cy="3555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dur="indefinite" fill="hold">
                      <p:stCondLst>
                        <p:cond delay="indefinite"/>
                      </p:stCondLst>
                      <p:childTnLst>
                        <p:par>
                          <p:cTn id="4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5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046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047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5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146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0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990720" y="2209680"/>
            <a:ext cx="7785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mpou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- a substance made from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wo or more differen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lements that ar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ly combin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2" name="" descr=""/>
          <p:cNvPicPr/>
          <p:nvPr/>
        </p:nvPicPr>
        <p:blipFill>
          <a:blip r:embed="rId1"/>
          <a:stretch/>
        </p:blipFill>
        <p:spPr>
          <a:xfrm>
            <a:off x="1650960" y="3860640"/>
            <a:ext cx="3441600" cy="2527560"/>
          </a:xfrm>
          <a:prstGeom prst="rect">
            <a:avLst/>
          </a:prstGeom>
          <a:ln w="0">
            <a:noFill/>
          </a:ln>
        </p:spPr>
      </p:pic>
      <p:pic>
        <p:nvPicPr>
          <p:cNvPr id="2153" name="" descr=""/>
          <p:cNvPicPr/>
          <p:nvPr/>
        </p:nvPicPr>
        <p:blipFill>
          <a:blip r:embed="rId2"/>
          <a:stretch/>
        </p:blipFill>
        <p:spPr>
          <a:xfrm>
            <a:off x="5067360" y="3860640"/>
            <a:ext cx="2908080" cy="2527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dur="indefinite" fill="hold">
                      <p:stCondLst>
                        <p:cond delay="indefinite"/>
                      </p:stCondLst>
                      <p:childTnLst>
                        <p:par>
                          <p:cTn id="4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4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155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156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255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9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066680" y="2286000"/>
            <a:ext cx="77090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Molecule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– a collection of elements bonded together that behave as a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hey do not need to contain two different ele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1" name="" descr=""/>
          <p:cNvPicPr/>
          <p:nvPr/>
        </p:nvPicPr>
        <p:blipFill>
          <a:blip r:embed="rId1"/>
          <a:stretch/>
        </p:blipFill>
        <p:spPr>
          <a:xfrm>
            <a:off x="3778200" y="4122720"/>
            <a:ext cx="2438280" cy="2241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dur="indefinite" fill="hold">
                      <p:stCondLst>
                        <p:cond delay="indefinite"/>
                      </p:stCondLst>
                      <p:childTnLst>
                        <p:par>
                          <p:cTn id="4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90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90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4" name=""/>
          <p:cNvSpPr/>
          <p:nvPr/>
        </p:nvSpPr>
        <p:spPr>
          <a:xfrm>
            <a:off x="1371600" y="698400"/>
            <a:ext cx="7391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  <a:ea typeface="Arial Black"/>
              </a:rPr>
              <a:t>What is matte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19320" y="2286000"/>
            <a:ext cx="77086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Matter is anything that has mas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and takes up spac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0960" y="3981600"/>
            <a:ext cx="8001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Quantifying Mat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– Measuring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Ma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– measure of the amount of mat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Volume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amount of three-dimensional space an object occup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2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263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264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363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7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031760" y="2286000"/>
            <a:ext cx="5843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atomic Molecu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Molecules that are composed of two at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ight elements exist in the diatomic state in the liquid and solid states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H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N</a:t>
            </a:r>
            <a:r>
              <a:rPr b="0" lang="en-US" sz="3000" spc="-1" strike="noStrike" u="sng" baseline="-6000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O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 u="sng" baseline="-6000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F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I</a:t>
            </a:r>
            <a:r>
              <a:rPr b="0" lang="en-US" sz="3000" spc="-1" strike="noStrike" u="sng" baseline="-6000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2</a:t>
            </a:r>
            <a:r>
              <a:rPr b="0" lang="en-US" sz="3000" spc="-1" strike="noStrike" u="sng" baseline="-6000">
                <a:solidFill>
                  <a:srgbClr val="ccccff"/>
                </a:solidFill>
                <a:uFillTx/>
                <a:latin typeface="Arial"/>
                <a:ea typeface="Arial"/>
                <a:hlinkClick r:id="rId7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8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9" name="" descr=""/>
          <p:cNvPicPr/>
          <p:nvPr/>
        </p:nvPicPr>
        <p:blipFill>
          <a:blip r:embed="rId9"/>
          <a:stretch/>
        </p:blipFill>
        <p:spPr>
          <a:xfrm>
            <a:off x="6459480" y="3319560"/>
            <a:ext cx="2409840" cy="180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FC82-57E8-4AEA-9134-75F48771973C}" type="slidenum">
              <a:t>20</a:t>
            </a:fld>
          </a:p>
        </p:txBody>
      </p:sp>
    </p:spTree>
  </p:cSld>
  <p:transition spd="med">
    <p:diamond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dur="indefinite" fill="hold">
                      <p:stCondLst>
                        <p:cond delay="indefinite"/>
                      </p:stCondLst>
                      <p:childTnLst>
                        <p:par>
                          <p:cTn id="4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371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372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0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471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5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ure Substa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838080" y="2362320"/>
            <a:ext cx="793764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e Sub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a substance that always has the same com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  elements, molecules, and com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838080" y="3962520"/>
            <a:ext cx="808992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perties of Pure Sub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sample of a pure substance has exactly the same characteristic proper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sample of a pure substance has exactly the same compos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8" name=""/>
          <p:cNvGrpSpPr/>
          <p:nvPr/>
        </p:nvGrpSpPr>
        <p:grpSpPr>
          <a:xfrm>
            <a:off x="-25560" y="93600"/>
            <a:ext cx="8910720" cy="6710400"/>
            <a:chOff x="-25560" y="93600"/>
            <a:chExt cx="8910720" cy="6710400"/>
          </a:xfrm>
        </p:grpSpPr>
        <p:grpSp>
          <p:nvGrpSpPr>
            <p:cNvPr id="2479" name=""/>
            <p:cNvGrpSpPr/>
            <p:nvPr/>
          </p:nvGrpSpPr>
          <p:grpSpPr>
            <a:xfrm>
              <a:off x="-25560" y="93600"/>
              <a:ext cx="642960" cy="6710400"/>
              <a:chOff x="-25560" y="93600"/>
              <a:chExt cx="642960" cy="6710400"/>
            </a:xfrm>
          </p:grpSpPr>
          <p:sp>
            <p:nvSpPr>
              <p:cNvPr id="2480" name=""/>
              <p:cNvSpPr/>
              <p:nvPr/>
            </p:nvSpPr>
            <p:spPr>
              <a:xfrm>
                <a:off x="-25560" y="6694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-25560" y="67518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-25560" y="6804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-25560" y="65516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-25560" y="6475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-25560" y="6622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-25560" y="58420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-25560" y="5799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-25560" y="6404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-25560" y="62038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-25560" y="6075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-25560" y="6370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-25560" y="5875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-25560" y="59612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-25560" y="62755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-25560" y="6242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-25560" y="55944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-25560" y="56516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-25560" y="570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-25560" y="54514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-25560" y="53751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-25560" y="55227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-25560" y="4741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-25560" y="4699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-25560" y="5303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-25560" y="51055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-25560" y="4975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-25560" y="5272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-25560" y="4775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-25560" y="48610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-25560" y="5175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-25560" y="5141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-25560" y="45180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-25560" y="438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-25560" y="4275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-25560" y="4587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-25560" y="4556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-25560" y="4078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-25560" y="41353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-25560" y="4187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-25560" y="39355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-25560" y="3859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-25560" y="4006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-25560" y="3787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-25560" y="3587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-25560" y="3754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-25560" y="3659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-25560" y="3625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-25560" y="3405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-25560" y="34624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-25560" y="3514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-25560" y="32623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-25560" y="3186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-25560" y="3333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-25560" y="25527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-25560" y="2509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-25560" y="3114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-25560" y="29145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-25560" y="2786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-25560" y="308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-25560" y="25858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-25560" y="2671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-25560" y="2986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-25560" y="2952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-25560" y="23050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-25560" y="23623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-25560" y="24145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-25560" y="2162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-25560" y="22334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-25560" y="1636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-25560" y="15937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-25560" y="19987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-25560" y="1870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-25560" y="167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-25560" y="17557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-25560" y="2070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-25560" y="2036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-25560" y="1389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-25560" y="1447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-25560" y="1500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-25560" y="12463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-25560" y="1319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-25560" y="1165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-25560" y="105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-25560" y="853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-25560" y="9111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-25560" y="963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-25560" y="711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-25560" y="635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-25560" y="78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-25560" y="563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-25560" y="5302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-25560" y="434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-25560" y="136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-25560" y="93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-25560" y="169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-25560" y="255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-25560" y="34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78" name=""/>
            <p:cNvGrpSpPr/>
            <p:nvPr/>
          </p:nvGrpSpPr>
          <p:grpSpPr>
            <a:xfrm>
              <a:off x="609480" y="351000"/>
              <a:ext cx="8275680" cy="1777680"/>
              <a:chOff x="609480" y="351000"/>
              <a:chExt cx="8275680" cy="1777680"/>
            </a:xfrm>
          </p:grpSpPr>
          <p:sp>
            <p:nvSpPr>
              <p:cNvPr id="2579" name=""/>
              <p:cNvSpPr/>
              <p:nvPr/>
            </p:nvSpPr>
            <p:spPr>
              <a:xfrm>
                <a:off x="858960" y="351000"/>
                <a:ext cx="49356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09480" y="482760"/>
                <a:ext cx="565812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273800" y="1793880"/>
                <a:ext cx="1471680" cy="334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227400" y="1946160"/>
                <a:ext cx="5657760" cy="7488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3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Mix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990720" y="2379600"/>
            <a:ext cx="5067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x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ubstance composed of two or more elements or compounds that are physically mixed together but not chemically combi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xtur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hysically comb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can be sepa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xtures are not only liquid. There can be solid, liquid, and gas mix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5" name="" descr=""/>
          <p:cNvPicPr/>
          <p:nvPr/>
        </p:nvPicPr>
        <p:blipFill>
          <a:blip r:embed="rId1"/>
          <a:stretch/>
        </p:blipFill>
        <p:spPr>
          <a:xfrm>
            <a:off x="6946920" y="2387520"/>
            <a:ext cx="1747800" cy="1905120"/>
          </a:xfrm>
          <a:prstGeom prst="rect">
            <a:avLst/>
          </a:prstGeom>
          <a:ln w="0">
            <a:noFill/>
          </a:ln>
        </p:spPr>
      </p:pic>
      <p:pic>
        <p:nvPicPr>
          <p:cNvPr id="2586" name="" descr=""/>
          <p:cNvPicPr/>
          <p:nvPr/>
        </p:nvPicPr>
        <p:blipFill>
          <a:blip r:embed="rId2"/>
          <a:stretch/>
        </p:blipFill>
        <p:spPr>
          <a:xfrm>
            <a:off x="6718320" y="4419720"/>
            <a:ext cx="2209680" cy="1679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dur="indefinite" fill="hold">
                      <p:stCondLst>
                        <p:cond delay="indefinite"/>
                      </p:stCondLst>
                      <p:childTnLst>
                        <p:par>
                          <p:cTn id="5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7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588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589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7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688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2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Types of Mix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990720" y="2438280"/>
            <a:ext cx="75564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Homogeneous mixtur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 mixture in which the composition is uniform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: Salt water, air, alloys, carbonated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914400" y="4114800"/>
            <a:ext cx="770904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Heterogeneous mixtur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 mixture that is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uniform througho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: Sand and water, salad dressing, oil and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1035000" y="5697360"/>
            <a:ext cx="1800" cy="2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dur="indefinite" fill="hold">
                      <p:stCondLst>
                        <p:cond delay="indefinite"/>
                      </p:stCondLst>
                      <p:childTnLst>
                        <p:par>
                          <p:cTn id="5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 fill="hold"/>
                                        <p:tgtEl>
                                          <p:spTgt spid="2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dur="indefinite" fill="hold">
                      <p:stCondLst>
                        <p:cond delay="indefinite"/>
                      </p:stCondLst>
                      <p:childTnLst>
                        <p:par>
                          <p:cTn id="5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 fill="hold"/>
                                        <p:tgtEl>
                                          <p:spTgt spid="2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dur="indefinite" fill="hold">
                      <p:stCondLst>
                        <p:cond delay="indefinite"/>
                      </p:stCondLst>
                      <p:childTnLst>
                        <p:par>
                          <p:cTn id="5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 fill="hold"/>
                                        <p:tgtEl>
                                          <p:spTgt spid="2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 fill="hold"/>
                                        <p:tgtEl>
                                          <p:spTgt spid="2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6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697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698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6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797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1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Alloy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990720" y="2438280"/>
            <a:ext cx="755640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Metallic Alloy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omogeneous mixture of two or more 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bon St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Iron with Carb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inless St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Iron with Chromiu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Copper with Zi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n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Copper with 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w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Tin with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3" name="" descr=""/>
          <p:cNvPicPr/>
          <p:nvPr/>
        </p:nvPicPr>
        <p:blipFill>
          <a:blip r:embed="rId1"/>
          <a:stretch/>
        </p:blipFill>
        <p:spPr>
          <a:xfrm>
            <a:off x="6286680" y="2913120"/>
            <a:ext cx="2692080" cy="3593880"/>
          </a:xfrm>
          <a:prstGeom prst="rect">
            <a:avLst/>
          </a:prstGeom>
          <a:ln w="0">
            <a:noFill/>
          </a:ln>
        </p:spPr>
      </p:pic>
      <p:pic>
        <p:nvPicPr>
          <p:cNvPr id="2804" name="" descr=""/>
          <p:cNvPicPr/>
          <p:nvPr/>
        </p:nvPicPr>
        <p:blipFill>
          <a:blip r:embed="rId2"/>
          <a:stretch/>
        </p:blipFill>
        <p:spPr>
          <a:xfrm>
            <a:off x="7142040" y="4879800"/>
            <a:ext cx="487440" cy="479520"/>
          </a:xfrm>
          <a:prstGeom prst="rect">
            <a:avLst/>
          </a:prstGeom>
          <a:ln w="0">
            <a:noFill/>
          </a:ln>
        </p:spPr>
      </p:pic>
      <p:sp>
        <p:nvSpPr>
          <p:cNvPr id="2805" name=""/>
          <p:cNvSpPr/>
          <p:nvPr/>
        </p:nvSpPr>
        <p:spPr>
          <a:xfrm>
            <a:off x="6880320" y="4813200"/>
            <a:ext cx="1079280" cy="571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8FAD-2812-49C8-979A-58515D522A71}" type="slidenum">
              <a:t>24</a:t>
            </a:fld>
          </a:p>
        </p:txBody>
      </p:sp>
    </p:spTree>
  </p:cSld>
  <p:transition spd="med">
    <p:diamond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dur="indefinite" fill="hold">
                      <p:stCondLst>
                        <p:cond delay="indefinite"/>
                      </p:stCondLst>
                      <p:childTnLst>
                        <p:par>
                          <p:cTn id="5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dur="indefinite" fill="hold">
                      <p:stCondLst>
                        <p:cond delay="indefinite"/>
                      </p:stCondLst>
                      <p:childTnLst>
                        <p:par>
                          <p:cTn id="5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550" dur="500" fill="hold"/>
                                        <p:tgtEl>
                                          <p:spTgt spid="2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6" name=""/>
          <p:cNvGrpSpPr/>
          <p:nvPr/>
        </p:nvGrpSpPr>
        <p:grpSpPr>
          <a:xfrm>
            <a:off x="838080" y="461880"/>
            <a:ext cx="8910720" cy="6710400"/>
            <a:chOff x="838080" y="461880"/>
            <a:chExt cx="8910720" cy="6710400"/>
          </a:xfrm>
        </p:grpSpPr>
        <p:grpSp>
          <p:nvGrpSpPr>
            <p:cNvPr id="2807" name=""/>
            <p:cNvGrpSpPr/>
            <p:nvPr/>
          </p:nvGrpSpPr>
          <p:grpSpPr>
            <a:xfrm>
              <a:off x="838080" y="461880"/>
              <a:ext cx="642960" cy="6710400"/>
              <a:chOff x="838080" y="461880"/>
              <a:chExt cx="642960" cy="6710400"/>
            </a:xfrm>
          </p:grpSpPr>
          <p:sp>
            <p:nvSpPr>
              <p:cNvPr id="2808" name=""/>
              <p:cNvSpPr/>
              <p:nvPr/>
            </p:nvSpPr>
            <p:spPr>
              <a:xfrm>
                <a:off x="838080" y="7062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838080" y="7120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838080" y="71722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38080" y="6919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838080" y="6843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838080" y="6991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838080" y="621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838080" y="6167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838080" y="677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838080" y="6572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38080" y="644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838080" y="673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838080" y="6243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838080" y="6329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838080" y="6643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838080" y="6610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838080" y="5962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838080" y="6019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838080" y="6072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38080" y="5819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38080" y="57434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38080" y="5891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838080" y="5110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38080" y="5067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838080" y="5672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838080" y="5473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838080" y="5343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838080" y="5640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838080" y="5143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838080" y="5229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838080" y="5543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838080" y="5510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838080" y="48862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838080" y="4757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838080" y="46432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838080" y="4956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838080" y="4924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838080" y="4446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838080" y="4503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838080" y="4556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838080" y="4303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838080" y="4227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838080" y="4375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838080" y="4156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838080" y="39560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838080" y="4122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38080" y="4027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838080" y="3994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38080" y="3773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838080" y="383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838080" y="3882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838080" y="3630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838080" y="35542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838080" y="3701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838080" y="2921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38080" y="28782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838080" y="3483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838080" y="32828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838080" y="3154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838080" y="344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838080" y="29541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838080" y="3040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838080" y="3354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838080" y="3321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838080" y="2673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838080" y="2730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838080" y="2782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838080" y="25304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838080" y="2602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838080" y="2004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838080" y="19620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838080" y="23670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838080" y="2238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838080" y="2038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838080" y="2124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838080" y="24382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838080" y="2405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838080" y="175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838080" y="18162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838080" y="186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838080" y="1614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838080" y="1687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838080" y="1533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838080" y="1419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838080" y="1222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838080" y="12794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838080" y="1332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838080" y="10796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838080" y="1003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838080" y="1150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838080" y="932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838080" y="898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838080" y="803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83808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838080" y="4618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838080" y="538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838080" y="6238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838080" y="714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06" name=""/>
            <p:cNvGrpSpPr/>
            <p:nvPr/>
          </p:nvGrpSpPr>
          <p:grpSpPr>
            <a:xfrm>
              <a:off x="1473120" y="719280"/>
              <a:ext cx="8275680" cy="1777680"/>
              <a:chOff x="1473120" y="719280"/>
              <a:chExt cx="8275680" cy="1777680"/>
            </a:xfrm>
          </p:grpSpPr>
          <p:sp>
            <p:nvSpPr>
              <p:cNvPr id="2907" name=""/>
              <p:cNvSpPr/>
              <p:nvPr/>
            </p:nvSpPr>
            <p:spPr>
              <a:xfrm>
                <a:off x="1722600" y="719280"/>
                <a:ext cx="49356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1473120" y="85104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8137440" y="2162160"/>
                <a:ext cx="1471680" cy="334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091040" y="2314440"/>
                <a:ext cx="5657760" cy="7488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1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Alloy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1008000" y="2352600"/>
            <a:ext cx="75564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luminu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Aluminum with various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ilv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Silver with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Gol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Gold with Silver and/or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SzPct val="45000"/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4 karat = 24 parts of gold (very sof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SzPct val="45000"/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2 karat = 22 parts gold : 2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SzPct val="45000"/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8 karat = 18 parts gold : 6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SzPct val="45000"/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4 karat = 14 parts gold : 10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SzPct val="45000"/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0 karat = 10 parts gold : 14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3" name="" descr=""/>
          <p:cNvPicPr/>
          <p:nvPr/>
        </p:nvPicPr>
        <p:blipFill>
          <a:blip r:embed="rId1"/>
          <a:stretch/>
        </p:blipFill>
        <p:spPr>
          <a:xfrm>
            <a:off x="6692760" y="2565360"/>
            <a:ext cx="2349720" cy="234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8256-7111-41F7-83FB-3D1F4B71FC9C}" type="slidenum">
              <a:t>25</a:t>
            </a:fld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4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915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916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14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015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019" name="" descr=""/>
          <p:cNvPicPr/>
          <p:nvPr/>
        </p:nvPicPr>
        <p:blipFill>
          <a:blip r:embed="rId1"/>
          <a:stretch/>
        </p:blipFill>
        <p:spPr>
          <a:xfrm>
            <a:off x="2309760" y="1295280"/>
            <a:ext cx="5297400" cy="519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D21B-F3B3-40CE-A03D-47ACE4E78CF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0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021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022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0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121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5" name=""/>
          <p:cNvSpPr/>
          <p:nvPr/>
        </p:nvSpPr>
        <p:spPr>
          <a:xfrm>
            <a:off x="1371600" y="539640"/>
            <a:ext cx="7391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500" spc="-1" strike="noStrike">
                <a:solidFill>
                  <a:srgbClr val="003366"/>
                </a:solidFill>
                <a:latin typeface="Arial Black"/>
                <a:ea typeface="Arial Black"/>
              </a:rPr>
              <a:t>Homogeneous or Heterogeneous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6" name="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1816200" cy="2057400"/>
          </a:xfrm>
          <a:prstGeom prst="rect">
            <a:avLst/>
          </a:prstGeom>
          <a:ln w="0">
            <a:noFill/>
          </a:ln>
        </p:spPr>
      </p:pic>
      <p:pic>
        <p:nvPicPr>
          <p:cNvPr id="3127" name="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544400" cy="1676160"/>
          </a:xfrm>
          <a:prstGeom prst="rect">
            <a:avLst/>
          </a:prstGeom>
          <a:ln w="0">
            <a:noFill/>
          </a:ln>
        </p:spPr>
      </p:pic>
      <p:pic>
        <p:nvPicPr>
          <p:cNvPr id="3128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1752480" cy="1251000"/>
          </a:xfrm>
          <a:prstGeom prst="rect">
            <a:avLst/>
          </a:prstGeom>
          <a:ln w="0">
            <a:noFill/>
          </a:ln>
        </p:spPr>
      </p:pic>
      <p:pic>
        <p:nvPicPr>
          <p:cNvPr id="3129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2595600" cy="1717920"/>
          </a:xfrm>
          <a:prstGeom prst="rect">
            <a:avLst/>
          </a:prstGeom>
          <a:ln w="0">
            <a:noFill/>
          </a:ln>
        </p:spPr>
      </p:pic>
      <p:pic>
        <p:nvPicPr>
          <p:cNvPr id="3130" name="" descr=""/>
          <p:cNvPicPr/>
          <p:nvPr/>
        </p:nvPicPr>
        <p:blipFill>
          <a:blip r:embed="rId5"/>
          <a:stretch/>
        </p:blipFill>
        <p:spPr>
          <a:xfrm>
            <a:off x="6095880" y="2438280"/>
            <a:ext cx="2438640" cy="1614600"/>
          </a:xfrm>
          <a:prstGeom prst="rect">
            <a:avLst/>
          </a:prstGeom>
          <a:ln w="0">
            <a:noFill/>
          </a:ln>
        </p:spPr>
      </p:pic>
      <p:pic>
        <p:nvPicPr>
          <p:cNvPr id="3131" name="" descr=""/>
          <p:cNvPicPr/>
          <p:nvPr/>
        </p:nvPicPr>
        <p:blipFill>
          <a:blip r:embed="rId6"/>
          <a:stretch/>
        </p:blipFill>
        <p:spPr>
          <a:xfrm>
            <a:off x="3422520" y="231156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3132" name=""/>
          <p:cNvSpPr/>
          <p:nvPr/>
        </p:nvSpPr>
        <p:spPr>
          <a:xfrm>
            <a:off x="495360" y="2736720"/>
            <a:ext cx="25527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 Black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581040" y="5148360"/>
            <a:ext cx="255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 Black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004080" y="3002040"/>
            <a:ext cx="2727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 Black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3079800" y="3002040"/>
            <a:ext cx="2727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 Black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6235560" y="4968720"/>
            <a:ext cx="2727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 Black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3463920" y="4865760"/>
            <a:ext cx="255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 Black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dur="indefinite" fill="hold">
                      <p:stCondLst>
                        <p:cond delay="indefinite"/>
                      </p:stCondLst>
                      <p:childTnLst>
                        <p:par>
                          <p:cTn id="5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dur="indefinite" fill="hold">
                      <p:stCondLst>
                        <p:cond delay="indefinite"/>
                      </p:stCondLst>
                      <p:childTnLst>
                        <p:par>
                          <p:cTn id="5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dur="indefinite" fill="hold">
                      <p:stCondLst>
                        <p:cond delay="indefinite"/>
                      </p:stCondLst>
                      <p:childTnLst>
                        <p:par>
                          <p:cTn id="5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dur="indefinite" fill="hold">
                      <p:stCondLst>
                        <p:cond delay="indefinite"/>
                      </p:stCondLst>
                      <p:childTnLst>
                        <p:par>
                          <p:cTn id="5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dur="indefinite" fill="hold">
                      <p:stCondLst>
                        <p:cond delay="indefinite"/>
                      </p:stCondLst>
                      <p:childTnLst>
                        <p:par>
                          <p:cTn id="5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dur="indefinite" fill="hold">
                      <p:stCondLst>
                        <p:cond delay="indefinite"/>
                      </p:stCondLst>
                      <p:childTnLst>
                        <p:par>
                          <p:cTn id="5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dur="indefinite" fill="hold">
                      <p:stCondLst>
                        <p:cond delay="indefinite"/>
                      </p:stCondLst>
                      <p:childTnLst>
                        <p:par>
                          <p:cTn id="5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dur="indefinite" fill="hold">
                      <p:stCondLst>
                        <p:cond delay="indefinite"/>
                      </p:stCondLst>
                      <p:childTnLst>
                        <p:par>
                          <p:cTn id="5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dur="indefinite" fill="hold">
                      <p:stCondLst>
                        <p:cond delay="indefinite"/>
                      </p:stCondLst>
                      <p:childTnLst>
                        <p:par>
                          <p:cTn id="6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dur="indefinite" fill="hold">
                      <p:stCondLst>
                        <p:cond delay="indefinite"/>
                      </p:stCondLst>
                      <p:childTnLst>
                        <p:par>
                          <p:cTn id="6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dur="indefinite" fill="hold">
                      <p:stCondLst>
                        <p:cond delay="indefinite"/>
                      </p:stCondLst>
                      <p:childTnLst>
                        <p:par>
                          <p:cTn id="6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dur="indefinite" fill="hold">
                      <p:stCondLst>
                        <p:cond delay="indefinite"/>
                      </p:stCondLst>
                      <p:childTnLst>
                        <p:par>
                          <p:cTn id="6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8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139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140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38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239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3" name=""/>
          <p:cNvSpPr/>
          <p:nvPr/>
        </p:nvSpPr>
        <p:spPr>
          <a:xfrm>
            <a:off x="1371600" y="787320"/>
            <a:ext cx="7391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Arial Black"/>
                <a:ea typeface="Arial Black"/>
              </a:rPr>
              <a:t>Classification of Matte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4" name=""/>
          <p:cNvGrpSpPr/>
          <p:nvPr/>
        </p:nvGrpSpPr>
        <p:grpSpPr>
          <a:xfrm>
            <a:off x="3886200" y="2133720"/>
            <a:ext cx="1522440" cy="379440"/>
            <a:chOff x="3886200" y="2133720"/>
            <a:chExt cx="1522440" cy="379440"/>
          </a:xfrm>
        </p:grpSpPr>
        <p:sp>
          <p:nvSpPr>
            <p:cNvPr id="3245" name=""/>
            <p:cNvSpPr/>
            <p:nvPr/>
          </p:nvSpPr>
          <p:spPr>
            <a:xfrm>
              <a:off x="3886200" y="2133720"/>
              <a:ext cx="1522440" cy="37944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200120" y="2141280"/>
              <a:ext cx="89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Mat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7" name=""/>
          <p:cNvGrpSpPr/>
          <p:nvPr/>
        </p:nvGrpSpPr>
        <p:grpSpPr>
          <a:xfrm>
            <a:off x="3048120" y="2971800"/>
            <a:ext cx="3122640" cy="531720"/>
            <a:chOff x="3048120" y="2971800"/>
            <a:chExt cx="3122640" cy="531720"/>
          </a:xfrm>
        </p:grpSpPr>
        <p:sp>
          <p:nvSpPr>
            <p:cNvPr id="3248" name=""/>
            <p:cNvSpPr/>
            <p:nvPr/>
          </p:nvSpPr>
          <p:spPr>
            <a:xfrm>
              <a:off x="3048120" y="2971800"/>
              <a:ext cx="3122640" cy="5317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335760" y="3055680"/>
              <a:ext cx="254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an it be separated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0" name=""/>
          <p:cNvGrpSpPr/>
          <p:nvPr/>
        </p:nvGrpSpPr>
        <p:grpSpPr>
          <a:xfrm>
            <a:off x="1752480" y="3962520"/>
            <a:ext cx="1979640" cy="455400"/>
            <a:chOff x="1752480" y="3962520"/>
            <a:chExt cx="1979640" cy="455400"/>
          </a:xfrm>
        </p:grpSpPr>
        <p:sp>
          <p:nvSpPr>
            <p:cNvPr id="3251" name=""/>
            <p:cNvSpPr/>
            <p:nvPr/>
          </p:nvSpPr>
          <p:spPr>
            <a:xfrm>
              <a:off x="1752480" y="3962520"/>
              <a:ext cx="197964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150280" y="4008240"/>
              <a:ext cx="118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Mixtu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3" name=""/>
          <p:cNvGrpSpPr/>
          <p:nvPr/>
        </p:nvGrpSpPr>
        <p:grpSpPr>
          <a:xfrm>
            <a:off x="5334120" y="3962520"/>
            <a:ext cx="2360520" cy="455400"/>
            <a:chOff x="5334120" y="3962520"/>
            <a:chExt cx="2360520" cy="455400"/>
          </a:xfrm>
        </p:grpSpPr>
        <p:sp>
          <p:nvSpPr>
            <p:cNvPr id="3254" name=""/>
            <p:cNvSpPr/>
            <p:nvPr/>
          </p:nvSpPr>
          <p:spPr>
            <a:xfrm>
              <a:off x="5334120" y="3962520"/>
              <a:ext cx="236052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478480" y="4008240"/>
              <a:ext cx="207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ure Sub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6" name=""/>
          <p:cNvGrpSpPr/>
          <p:nvPr/>
        </p:nvGrpSpPr>
        <p:grpSpPr>
          <a:xfrm>
            <a:off x="1051920" y="4876920"/>
            <a:ext cx="3531600" cy="455400"/>
            <a:chOff x="1051920" y="4876920"/>
            <a:chExt cx="3531600" cy="455400"/>
          </a:xfrm>
        </p:grpSpPr>
        <p:sp>
          <p:nvSpPr>
            <p:cNvPr id="3257" name=""/>
            <p:cNvSpPr/>
            <p:nvPr/>
          </p:nvSpPr>
          <p:spPr>
            <a:xfrm>
              <a:off x="1065240" y="4876920"/>
              <a:ext cx="350352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051920" y="4922640"/>
              <a:ext cx="353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Is the composition uniform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9" name=""/>
          <p:cNvGrpSpPr/>
          <p:nvPr/>
        </p:nvGrpSpPr>
        <p:grpSpPr>
          <a:xfrm>
            <a:off x="754920" y="5867280"/>
            <a:ext cx="1839960" cy="760680"/>
            <a:chOff x="754920" y="5867280"/>
            <a:chExt cx="1839960" cy="760680"/>
          </a:xfrm>
        </p:grpSpPr>
        <p:sp>
          <p:nvSpPr>
            <p:cNvPr id="3260" name=""/>
            <p:cNvSpPr/>
            <p:nvPr/>
          </p:nvSpPr>
          <p:spPr>
            <a:xfrm>
              <a:off x="760320" y="5867280"/>
              <a:ext cx="182736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54920" y="6065640"/>
              <a:ext cx="183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omogeneo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2" name=""/>
          <p:cNvSpPr/>
          <p:nvPr/>
        </p:nvSpPr>
        <p:spPr>
          <a:xfrm>
            <a:off x="4648320" y="2590920"/>
            <a:ext cx="144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 flipH="1">
            <a:off x="2509560" y="3429000"/>
            <a:ext cx="39060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6248520" y="3505320"/>
            <a:ext cx="38088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5" name=""/>
          <p:cNvGrpSpPr/>
          <p:nvPr/>
        </p:nvGrpSpPr>
        <p:grpSpPr>
          <a:xfrm>
            <a:off x="3083040" y="5867280"/>
            <a:ext cx="1908360" cy="760680"/>
            <a:chOff x="3083040" y="5867280"/>
            <a:chExt cx="1908360" cy="760680"/>
          </a:xfrm>
        </p:grpSpPr>
        <p:sp>
          <p:nvSpPr>
            <p:cNvPr id="3266" name=""/>
            <p:cNvSpPr/>
            <p:nvPr/>
          </p:nvSpPr>
          <p:spPr>
            <a:xfrm>
              <a:off x="3122640" y="5867280"/>
              <a:ext cx="182880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083040" y="6065640"/>
              <a:ext cx="190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eterogeneo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8" name=""/>
          <p:cNvSpPr/>
          <p:nvPr/>
        </p:nvSpPr>
        <p:spPr>
          <a:xfrm>
            <a:off x="2666880" y="4495680"/>
            <a:ext cx="18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 flipH="1">
            <a:off x="1518840" y="5486400"/>
            <a:ext cx="31428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3809880" y="5486400"/>
            <a:ext cx="2286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1828800" y="3276720"/>
            <a:ext cx="698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6553080" y="3200400"/>
            <a:ext cx="69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3" name=""/>
          <p:cNvGrpSpPr/>
          <p:nvPr/>
        </p:nvGrpSpPr>
        <p:grpSpPr>
          <a:xfrm>
            <a:off x="5253120" y="4876920"/>
            <a:ext cx="3586320" cy="531720"/>
            <a:chOff x="5253120" y="4876920"/>
            <a:chExt cx="3586320" cy="531720"/>
          </a:xfrm>
        </p:grpSpPr>
        <p:sp>
          <p:nvSpPr>
            <p:cNvPr id="3274" name=""/>
            <p:cNvSpPr/>
            <p:nvPr/>
          </p:nvSpPr>
          <p:spPr>
            <a:xfrm>
              <a:off x="5256360" y="4876920"/>
              <a:ext cx="3581280" cy="5317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5253120" y="4989960"/>
              <a:ext cx="3586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an it be broken down ordinarily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6" name=""/>
          <p:cNvGrpSpPr/>
          <p:nvPr/>
        </p:nvGrpSpPr>
        <p:grpSpPr>
          <a:xfrm>
            <a:off x="5529600" y="5867280"/>
            <a:ext cx="1432800" cy="760680"/>
            <a:chOff x="5529600" y="5867280"/>
            <a:chExt cx="1432800" cy="760680"/>
          </a:xfrm>
        </p:grpSpPr>
        <p:sp>
          <p:nvSpPr>
            <p:cNvPr id="3277" name=""/>
            <p:cNvSpPr/>
            <p:nvPr/>
          </p:nvSpPr>
          <p:spPr>
            <a:xfrm>
              <a:off x="5560920" y="5867280"/>
              <a:ext cx="137160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529600" y="6065640"/>
              <a:ext cx="143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ompou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9" name=""/>
          <p:cNvGrpSpPr/>
          <p:nvPr/>
        </p:nvGrpSpPr>
        <p:grpSpPr>
          <a:xfrm>
            <a:off x="7543800" y="5867280"/>
            <a:ext cx="1217520" cy="760680"/>
            <a:chOff x="7543800" y="5867280"/>
            <a:chExt cx="1217520" cy="760680"/>
          </a:xfrm>
        </p:grpSpPr>
        <p:sp>
          <p:nvSpPr>
            <p:cNvPr id="3280" name=""/>
            <p:cNvSpPr/>
            <p:nvPr/>
          </p:nvSpPr>
          <p:spPr>
            <a:xfrm>
              <a:off x="7543800" y="5867280"/>
              <a:ext cx="121752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603920" y="6065640"/>
              <a:ext cx="109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El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2" name=""/>
          <p:cNvSpPr/>
          <p:nvPr/>
        </p:nvSpPr>
        <p:spPr>
          <a:xfrm>
            <a:off x="6553080" y="4495680"/>
            <a:ext cx="18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 flipH="1">
            <a:off x="6091200" y="5486400"/>
            <a:ext cx="23832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7696080" y="5486400"/>
            <a:ext cx="38124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457200" y="5334120"/>
            <a:ext cx="1003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4038480" y="5334120"/>
            <a:ext cx="851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5029200" y="5410080"/>
            <a:ext cx="100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8077320" y="5410080"/>
            <a:ext cx="850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9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290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291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390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4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roducts &amp; React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762120" y="2133720"/>
            <a:ext cx="74800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Reactants 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ubstances that react in a chemical reaction. Shown on the left of a chemical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762120" y="2971800"/>
            <a:ext cx="69469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roduct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substances that are formed as a result of a chemical reaction. Shown on the right of a chemical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977760" y="4280040"/>
            <a:ext cx="77724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carbon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+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ff33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carbon diox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+ 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Lucida Grande"/>
                <a:ea typeface="Lucida Grande"/>
              </a:rPr>
              <a:t>2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Grande"/>
                <a:ea typeface="Lucida Grande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</a:t>
            </a:r>
            <a:r>
              <a:rPr b="0" lang="en-US" sz="2400" spc="-1" strike="noStrike">
                <a:solidFill>
                  <a:srgbClr val="ff33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 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CO</a:t>
            </a:r>
            <a:r>
              <a:rPr b="0" lang="en-US" sz="2400" spc="-1" strike="noStrike" baseline="-25000">
                <a:solidFill>
                  <a:srgbClr val="00ae00"/>
                </a:solidFill>
                <a:latin typeface="Lucida Grande"/>
                <a:ea typeface="Lucida Grand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    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reactants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</a:t>
            </a:r>
            <a:r>
              <a:rPr b="0" lang="en-US" sz="2400" spc="-1" strike="noStrike">
                <a:solidFill>
                  <a:srgbClr val="ff3366"/>
                </a:solidFill>
                <a:latin typeface="Lucida Grande"/>
                <a:ea typeface="Lucida Grande"/>
              </a:rPr>
              <a:t>yield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Carbon reacts with oxygen to yield carbon dioxi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dur="indefinite" fill="hold">
                      <p:stCondLst>
                        <p:cond delay="indefinite"/>
                      </p:stCondLst>
                      <p:childTnLst>
                        <p:par>
                          <p:cTn id="6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 fill="hold"/>
                                        <p:tgtEl>
                                          <p:spTgt spid="3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dur="indefinite" fill="hold">
                      <p:stCondLst>
                        <p:cond delay="indefinite"/>
                      </p:stCondLst>
                      <p:childTnLst>
                        <p:par>
                          <p:cTn id="6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dur="indefinite" fill="hold">
                      <p:stCondLst>
                        <p:cond delay="indefinite"/>
                      </p:stCondLst>
                      <p:childTnLst>
                        <p:par>
                          <p:cTn id="6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 fill="hold"/>
                                        <p:tgtEl>
                                          <p:spTgt spid="3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dur="indefinite" fill="hold">
                      <p:stCondLst>
                        <p:cond delay="indefinite"/>
                      </p:stCondLst>
                      <p:childTnLst>
                        <p:par>
                          <p:cTn id="6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 fill="hold"/>
                                        <p:tgtEl>
                                          <p:spTgt spid="3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dur="indefinite" fill="hold">
                      <p:stCondLst>
                        <p:cond delay="indefinite"/>
                      </p:stCondLst>
                      <p:childTnLst>
                        <p:par>
                          <p:cTn id="6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 fill="hold"/>
                                        <p:tgtEl>
                                          <p:spTgt spid="3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dur="indefinite" fill="hold">
                      <p:stCondLst>
                        <p:cond delay="indefinite"/>
                      </p:stCondLst>
                      <p:childTnLst>
                        <p:par>
                          <p:cTn id="6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 fill="hold"/>
                                        <p:tgtEl>
                                          <p:spTgt spid="3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98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98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600" y="147600"/>
            <a:ext cx="7375680" cy="2067120"/>
          </a:xfrm>
          <a:prstGeom prst="rect">
            <a:avLst/>
          </a:prstGeom>
          <a:noFill/>
          <a:ln w="0">
            <a:noFill/>
          </a:ln>
        </p:spPr>
        <p:txBody>
          <a:bodyPr lIns="50760" rIns="129240" tIns="50760" bIns="50760" anchor="ctr">
            <a:noAutofit/>
          </a:bodyPr>
          <a:p>
            <a:pPr marL="38160" indent="0" algn="ctr">
              <a:lnSpc>
                <a:spcPct val="85000"/>
              </a:lnSpc>
              <a:buNone/>
              <a:tabLst>
                <a:tab algn="l" pos="0"/>
                <a:tab algn="l" pos="381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  <a:ea typeface="Arial Black"/>
              </a:rPr>
              <a:t>States of Matter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39440" y="2095560"/>
            <a:ext cx="7954920" cy="4643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hysical forms in which 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stance can exi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se-Einstein Condens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i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qui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s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514B-F1C6-4B54-B015-BE53FD99684F}" type="slidenum">
              <a:t>3</a:t>
            </a:fld>
          </a:p>
        </p:txBody>
      </p:sp>
    </p:spTree>
  </p:cSld>
  <p:transition spd="med"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8" name="" descr=""/>
          <p:cNvPicPr/>
          <p:nvPr/>
        </p:nvPicPr>
        <p:blipFill>
          <a:blip r:embed="rId1"/>
          <a:stretch/>
        </p:blipFill>
        <p:spPr>
          <a:xfrm>
            <a:off x="469800" y="4686480"/>
            <a:ext cx="2578320" cy="1625400"/>
          </a:xfrm>
          <a:prstGeom prst="rect">
            <a:avLst/>
          </a:prstGeom>
          <a:ln w="0">
            <a:noFill/>
          </a:ln>
        </p:spPr>
      </p:pic>
      <p:pic>
        <p:nvPicPr>
          <p:cNvPr id="3399" name="" descr=""/>
          <p:cNvPicPr/>
          <p:nvPr/>
        </p:nvPicPr>
        <p:blipFill>
          <a:blip r:embed="rId2"/>
          <a:stretch/>
        </p:blipFill>
        <p:spPr>
          <a:xfrm>
            <a:off x="6858000" y="4584600"/>
            <a:ext cx="2171880" cy="1625760"/>
          </a:xfrm>
          <a:prstGeom prst="rect">
            <a:avLst/>
          </a:prstGeom>
          <a:ln w="0">
            <a:noFill/>
          </a:ln>
        </p:spPr>
      </p:pic>
      <p:grpSp>
        <p:nvGrpSpPr>
          <p:cNvPr id="3400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401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402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0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501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5" name=""/>
          <p:cNvSpPr/>
          <p:nvPr/>
        </p:nvSpPr>
        <p:spPr>
          <a:xfrm>
            <a:off x="1371600" y="806400"/>
            <a:ext cx="73915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  <a:ea typeface="Arial Black"/>
              </a:rPr>
              <a:t>      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Reac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990720" y="2133720"/>
            <a:ext cx="778500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reac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-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process by which one or more substances change to produce one or more different substanc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NaOH + HCl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NaCl +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C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4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+ 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 + C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dur="indefinite" fill="hold">
                      <p:stCondLst>
                        <p:cond delay="indefinite"/>
                      </p:stCondLst>
                      <p:childTnLst>
                        <p:par>
                          <p:cTn id="6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 fill="hold"/>
                                        <p:tgtEl>
                                          <p:spTgt spid="3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dur="indefinite" fill="hold">
                      <p:stCondLst>
                        <p:cond delay="indefinite"/>
                      </p:stCondLst>
                      <p:childTnLst>
                        <p:par>
                          <p:cTn id="6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 fill="hold"/>
                                        <p:tgtEl>
                                          <p:spTgt spid="3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dur="indefinite" fill="hold">
                      <p:stCondLst>
                        <p:cond delay="indefinite"/>
                      </p:stCondLst>
                      <p:childTnLst>
                        <p:par>
                          <p:cTn id="6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 fill="hold"/>
                                        <p:tgtEl>
                                          <p:spTgt spid="3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dur="indefinite" fill="hold">
                      <p:stCondLst>
                        <p:cond delay="indefinite"/>
                      </p:stCondLst>
                      <p:childTnLst>
                        <p:par>
                          <p:cTn id="6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 fill="hold"/>
                                        <p:tgtEl>
                                          <p:spTgt spid="3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dur="indefinite" fill="hold">
                      <p:stCondLst>
                        <p:cond delay="indefinite"/>
                      </p:stCondLst>
                      <p:childTnLst>
                        <p:par>
                          <p:cTn id="6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dur="indefinite" fill="hold">
                      <p:stCondLst>
                        <p:cond delay="indefinite"/>
                      </p:stCondLst>
                      <p:childTnLst>
                        <p:par>
                          <p:cTn id="6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7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508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509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7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608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2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Gummy Bear 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533520" y="2209680"/>
            <a:ext cx="8318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KCl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3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+ Gummy Bear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C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+ KCl +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Potassium Chlorate + Gummy Bear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Carbon Dioxide + Potassium Chloride + Wat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What are the reactant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What are the product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dur="indefinite" fill="hold">
                      <p:stCondLst>
                        <p:cond delay="indefinite"/>
                      </p:stCondLst>
                      <p:childTnLst>
                        <p:par>
                          <p:cTn id="6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 fill="hold"/>
                                        <p:tgtEl>
                                          <p:spTgt spid="3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dur="indefinite" fill="hold">
                      <p:stCondLst>
                        <p:cond delay="indefinite"/>
                      </p:stCondLst>
                      <p:childTnLst>
                        <p:par>
                          <p:cTn id="6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 fill="hold"/>
                                        <p:tgtEl>
                                          <p:spTgt spid="3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dur="indefinite" fill="hold">
                      <p:stCondLst>
                        <p:cond delay="indefinite"/>
                      </p:stCondLst>
                      <p:childTnLst>
                        <p:par>
                          <p:cTn id="7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 fill="hold"/>
                                        <p:tgtEl>
                                          <p:spTgt spid="3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dur="indefinite" fill="hold">
                      <p:stCondLst>
                        <p:cond delay="indefinite"/>
                      </p:stCondLst>
                      <p:childTnLst>
                        <p:par>
                          <p:cTn id="7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 fill="hold"/>
                                        <p:tgtEl>
                                          <p:spTgt spid="3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dur="indefinite" fill="hold">
                      <p:stCondLst>
                        <p:cond delay="indefinite"/>
                      </p:stCondLst>
                      <p:childTnLst>
                        <p:par>
                          <p:cTn id="7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 fill="hold"/>
                                        <p:tgtEl>
                                          <p:spTgt spid="3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4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615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616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4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715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1371600" y="147600"/>
            <a:ext cx="7375680" cy="2067120"/>
          </a:xfrm>
          <a:prstGeom prst="rect">
            <a:avLst/>
          </a:prstGeom>
          <a:noFill/>
          <a:ln w="0">
            <a:noFill/>
          </a:ln>
        </p:spPr>
        <p:txBody>
          <a:bodyPr lIns="50760" rIns="129240" tIns="50760" bIns="50760" anchor="ctr">
            <a:noAutofit/>
          </a:bodyPr>
          <a:p>
            <a:pPr marL="38160" indent="0" algn="ctr">
              <a:lnSpc>
                <a:spcPct val="85000"/>
              </a:lnSpc>
              <a:buNone/>
              <a:tabLst>
                <a:tab algn="l" pos="0"/>
                <a:tab algn="l" pos="381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t">
            <a:normAutofit/>
          </a:bodyPr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Mixtures can be separated into their individual component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Following are various separation method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7475400" y="6370560"/>
            <a:ext cx="419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1EB2AA-9DED-4D59-A78B-5F695A0E762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E308-6B24-4B48-A127-0F1FB18301DB}" type="slidenum">
              <a:t>32</a:t>
            </a:fld>
          </a:p>
        </p:txBody>
      </p:sp>
    </p:spTree>
  </p:cSld>
  <p:transition spd="med"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2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723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724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22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823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7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762120" y="2286000"/>
            <a:ext cx="488952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Lucida Grande"/>
                <a:ea typeface="Lucida Grande"/>
              </a:rPr>
              <a:t>Gravitational Filtration</a:t>
            </a:r>
            <a:r>
              <a:rPr b="1" lang="en-US" sz="32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- </a:t>
            </a:r>
            <a:r>
              <a:rPr b="0" lang="en-US" sz="32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uses gravity and filter paper to separate heterogeneous mixtures of liquids and solids</a:t>
            </a:r>
            <a:r>
              <a:rPr b="0" lang="en-US" sz="20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Symbo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29" name="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97684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0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831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832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30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931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5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809640" y="2214720"/>
            <a:ext cx="5651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Magnetism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d to separate magnetic matter from non-magnetic matt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Usually used to separate solid magnetic material from solid non-magnetic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7" name="" descr=""/>
          <p:cNvPicPr/>
          <p:nvPr/>
        </p:nvPicPr>
        <p:blipFill>
          <a:blip r:embed="rId1"/>
          <a:stretch/>
        </p:blipFill>
        <p:spPr>
          <a:xfrm>
            <a:off x="6719760" y="2692440"/>
            <a:ext cx="210816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8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939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940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38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039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3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809640" y="2214720"/>
            <a:ext cx="79754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Electroly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 use of electricity to separate compou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38160" y="46440"/>
            <a:ext cx="23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ctr">
            <a:sp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4443480" y="3246840"/>
            <a:ext cx="23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ctr">
            <a:sp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7" name="" descr=""/>
          <p:cNvPicPr/>
          <p:nvPr/>
        </p:nvPicPr>
        <p:blipFill>
          <a:blip r:embed="rId1"/>
          <a:stretch/>
        </p:blipFill>
        <p:spPr>
          <a:xfrm>
            <a:off x="3200400" y="3475080"/>
            <a:ext cx="411480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8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049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050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48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149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3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809640" y="2214720"/>
            <a:ext cx="46861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Vacuum Filtration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uses vacuum suction to separate heterogeneous mixtures of solids &amp;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5" name="" descr=""/>
          <p:cNvPicPr/>
          <p:nvPr/>
        </p:nvPicPr>
        <p:blipFill>
          <a:blip r:embed="rId1"/>
          <a:stretch/>
        </p:blipFill>
        <p:spPr>
          <a:xfrm>
            <a:off x="5753160" y="2451240"/>
            <a:ext cx="3136680" cy="3746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6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157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158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56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257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1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809640" y="2214720"/>
            <a:ext cx="4508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Separatory Funnel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used to separate heterogeneous mixtures of 2 or more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3" name="" descr=""/>
          <p:cNvPicPr/>
          <p:nvPr/>
        </p:nvPicPr>
        <p:blipFill>
          <a:blip r:embed="rId1"/>
          <a:stretch/>
        </p:blipFill>
        <p:spPr>
          <a:xfrm>
            <a:off x="5311800" y="2247840"/>
            <a:ext cx="3645000" cy="4203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4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265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266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64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365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69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809640" y="2214720"/>
            <a:ext cx="797544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Distill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s different boiling points to separate homogeneous solutions formed from 2 or more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1" name="" descr=""/>
          <p:cNvPicPr/>
          <p:nvPr/>
        </p:nvPicPr>
        <p:blipFill>
          <a:blip r:embed="rId1"/>
          <a:stretch/>
        </p:blipFill>
        <p:spPr>
          <a:xfrm>
            <a:off x="4114800" y="3809880"/>
            <a:ext cx="4343400" cy="2757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2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373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374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72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473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7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809640" y="2214720"/>
            <a:ext cx="79754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Centrifug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s rapid spinning to separate solids from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79" name="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2438280" cy="2362320"/>
          </a:xfrm>
          <a:prstGeom prst="rect">
            <a:avLst/>
          </a:prstGeom>
          <a:ln w="0">
            <a:noFill/>
          </a:ln>
        </p:spPr>
      </p:pic>
      <p:pic>
        <p:nvPicPr>
          <p:cNvPr id="4480" name="" descr=""/>
          <p:cNvPicPr/>
          <p:nvPr/>
        </p:nvPicPr>
        <p:blipFill>
          <a:blip r:embed="rId2"/>
          <a:stretch/>
        </p:blipFill>
        <p:spPr>
          <a:xfrm>
            <a:off x="1371600" y="4114800"/>
            <a:ext cx="393372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05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05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The Different State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809640" y="2214720"/>
          <a:ext cx="7961400" cy="4608360"/>
        </p:xfrm>
        <a:graphic>
          <a:graphicData uri="http://schemas.openxmlformats.org/drawingml/2006/table">
            <a:tbl>
              <a:tblPr/>
              <a:tblGrid>
                <a:gridCol w="1852560"/>
                <a:gridCol w="2370240"/>
                <a:gridCol w="3738600"/>
              </a:tblGrid>
              <a:tr h="592920"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tat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ampl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haracteristic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28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Sol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finite volume &amp; definite 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28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Liqu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finite volume; takes shape of contai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Ga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definite shape or 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Plasma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ists at high temps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definite shape or 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1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482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483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81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582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86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809640" y="2214720"/>
            <a:ext cx="39495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Chromatography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d to separate homogeneous mixtures through the use of a solvent &amp; a medi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8" name="" descr=""/>
          <p:cNvPicPr/>
          <p:nvPr/>
        </p:nvPicPr>
        <p:blipFill>
          <a:blip r:embed="rId1"/>
          <a:stretch/>
        </p:blipFill>
        <p:spPr>
          <a:xfrm>
            <a:off x="4851360" y="2455920"/>
            <a:ext cx="3949920" cy="3479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9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590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591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89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690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94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809640" y="2214720"/>
            <a:ext cx="7975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Recrystalliz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a separation technique in which the temperature of a solvent is increased to allow the solute to dissolve and then allowed to cool, which promotes the formation of solute crys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6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697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698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96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797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01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2" name=""/>
          <p:cNvSpPr/>
          <p:nvPr/>
        </p:nvSpPr>
        <p:spPr>
          <a:xfrm>
            <a:off x="809640" y="2214720"/>
            <a:ext cx="79754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rystalliz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separates a solid that is dissolved in a liquid through evaporation.  The liquid evaporates &amp; the solid recrystalliz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12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712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6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tates of Matter on a Molecular Lev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762120" y="2286000"/>
          <a:ext cx="8109000" cy="4416480"/>
        </p:xfrm>
        <a:graphic>
          <a:graphicData uri="http://schemas.openxmlformats.org/drawingml/2006/table">
            <a:tbl>
              <a:tblPr/>
              <a:tblGrid>
                <a:gridCol w="1704960"/>
                <a:gridCol w="6404040"/>
              </a:tblGrid>
              <a:tr h="1036800"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tat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What is happening at the molecular level?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Sol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Liqu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Ga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8" name=""/>
          <p:cNvSpPr/>
          <p:nvPr/>
        </p:nvSpPr>
        <p:spPr>
          <a:xfrm>
            <a:off x="2527200" y="3352680"/>
            <a:ext cx="62611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close together, have strong attractions for each other, are locked into position, and only have vibrational mo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565360" y="4406760"/>
            <a:ext cx="610884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moving slowly, are close to each other, have attractions to each other that are constantly forming and break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77960" y="5626080"/>
            <a:ext cx="61088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in constant rapid motion, are widely separated, are not attracted to each other, and they bounce off each other when they col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 flipH="1">
            <a:off x="5179320" y="4241880"/>
            <a:ext cx="209556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723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724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823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7" name=""/>
          <p:cNvSpPr/>
          <p:nvPr/>
        </p:nvSpPr>
        <p:spPr>
          <a:xfrm>
            <a:off x="1308240" y="533520"/>
            <a:ext cx="7391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5500" spc="-1" strike="noStrike">
                <a:solidFill>
                  <a:srgbClr val="003366"/>
                </a:solidFill>
                <a:latin typeface="Arial Black"/>
                <a:ea typeface="Arial Black"/>
              </a:rPr>
              <a:t>Phase Change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155600" y="2463840"/>
            <a:ext cx="1052640" cy="3643200"/>
            <a:chOff x="1155600" y="2463840"/>
            <a:chExt cx="1052640" cy="3643200"/>
          </a:xfrm>
        </p:grpSpPr>
        <p:sp>
          <p:nvSpPr>
            <p:cNvPr id="829" name=""/>
            <p:cNvSpPr/>
            <p:nvPr/>
          </p:nvSpPr>
          <p:spPr>
            <a:xfrm>
              <a:off x="1155600" y="2463840"/>
              <a:ext cx="1052640" cy="3643200"/>
            </a:xfrm>
            <a:custGeom>
              <a:avLst/>
              <a:gdLst>
                <a:gd name="textAreaLeft" fmla="*/ 55440 w 1052640"/>
                <a:gd name="textAreaRight" fmla="*/ 997200 w 105264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40">
                  <a:moveTo>
                    <a:pt x="3903" y="0"/>
                  </a:moveTo>
                  <a:arcTo wR="3903" hR="3903" stAng="16200000" swAng="-5400000"/>
                  <a:lnTo>
                    <a:pt x="0" y="70837"/>
                  </a:lnTo>
                  <a:arcTo wR="3903" hR="3903" stAng="10800000" swAng="-5400000"/>
                  <a:lnTo>
                    <a:pt x="17697" y="74740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51360" y="4013280"/>
              <a:ext cx="82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Sol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062240" y="3784680"/>
            <a:ext cx="1054440" cy="912600"/>
            <a:chOff x="4062240" y="3784680"/>
            <a:chExt cx="1054440" cy="912600"/>
          </a:xfrm>
        </p:grpSpPr>
        <p:sp>
          <p:nvSpPr>
            <p:cNvPr id="832" name=""/>
            <p:cNvSpPr/>
            <p:nvPr/>
          </p:nvSpPr>
          <p:spPr>
            <a:xfrm>
              <a:off x="4062240" y="3784680"/>
              <a:ext cx="1054440" cy="912600"/>
            </a:xfrm>
            <a:prstGeom prst="roundRect">
              <a:avLst>
                <a:gd name="adj" fmla="val 20833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077720" y="4013280"/>
              <a:ext cx="99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Liqu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7442280" y="2603520"/>
            <a:ext cx="1052280" cy="3643200"/>
            <a:chOff x="7442280" y="2603520"/>
            <a:chExt cx="1052280" cy="3643200"/>
          </a:xfrm>
        </p:grpSpPr>
        <p:sp>
          <p:nvSpPr>
            <p:cNvPr id="835" name=""/>
            <p:cNvSpPr/>
            <p:nvPr/>
          </p:nvSpPr>
          <p:spPr>
            <a:xfrm>
              <a:off x="7442280" y="2603520"/>
              <a:ext cx="1052280" cy="3643200"/>
            </a:xfrm>
            <a:custGeom>
              <a:avLst/>
              <a:gdLst>
                <a:gd name="textAreaLeft" fmla="*/ 55440 w 1052280"/>
                <a:gd name="textAreaRight" fmla="*/ 996840 w 105228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65">
                  <a:moveTo>
                    <a:pt x="3903" y="0"/>
                  </a:moveTo>
                  <a:arcTo wR="3903" hR="3903" stAng="16200000" swAng="-5400000"/>
                  <a:lnTo>
                    <a:pt x="0" y="70862"/>
                  </a:lnTo>
                  <a:arcTo wR="3903" hR="3903" stAng="10800000" swAng="-5400000"/>
                  <a:lnTo>
                    <a:pt x="17697" y="74765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612920" y="4013280"/>
              <a:ext cx="65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2374920" y="3670200"/>
            <a:ext cx="165096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29720" y="3772080"/>
            <a:ext cx="114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219640" y="3670200"/>
            <a:ext cx="209556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392800" y="3809880"/>
            <a:ext cx="1612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1800" spc="-1" strike="noStrike">
                <a:solidFill>
                  <a:srgbClr val="001f67"/>
                </a:solidFill>
                <a:latin typeface="Arial"/>
                <a:ea typeface="Arial"/>
              </a:rPr>
              <a:t>Evap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2310840" y="4241880"/>
            <a:ext cx="160020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334120" y="4381560"/>
            <a:ext cx="1879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1800" spc="-1" strike="noStrike">
                <a:solidFill>
                  <a:srgbClr val="001f67"/>
                </a:solidFill>
                <a:latin typeface="Arial"/>
                <a:ea typeface="Arial"/>
              </a:rPr>
              <a:t>Conden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39080" y="4330800"/>
            <a:ext cx="133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Freez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74920" y="266688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651120" y="2755800"/>
            <a:ext cx="18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Subl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2311560" y="535932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20680" y="5448240"/>
            <a:ext cx="165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De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849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850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949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3" name=""/>
          <p:cNvSpPr/>
          <p:nvPr/>
        </p:nvSpPr>
        <p:spPr>
          <a:xfrm>
            <a:off x="1308240" y="533520"/>
            <a:ext cx="7391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5500" spc="-1" strike="noStrike">
                <a:solidFill>
                  <a:srgbClr val="003366"/>
                </a:solidFill>
                <a:latin typeface="Arial Black"/>
                <a:ea typeface="Arial Black"/>
              </a:rPr>
              <a:t>Phase Change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155600" y="2463840"/>
            <a:ext cx="1054080" cy="3645000"/>
          </a:xfrm>
          <a:custGeom>
            <a:avLst/>
            <a:gdLst>
              <a:gd name="textAreaLeft" fmla="*/ 55800 w 1054080"/>
              <a:gd name="textAreaRight" fmla="*/ 998280 w 1054080"/>
              <a:gd name="textAreaTop" fmla="*/ 55800 h 3645000"/>
              <a:gd name="textAreaBottom" fmla="*/ 3589200 h 3645000"/>
            </a:gdLst>
            <a:ahLst/>
            <a:rect l="textAreaLeft" t="textAreaTop" r="textAreaRight" b="textAreaBottom"/>
            <a:pathLst>
              <a:path w="21600" h="74674">
                <a:moveTo>
                  <a:pt x="3903" y="0"/>
                </a:moveTo>
                <a:arcTo wR="3903" hR="3903" stAng="16200000" swAng="-5400000"/>
                <a:lnTo>
                  <a:pt x="0" y="70771"/>
                </a:lnTo>
                <a:arcTo wR="3903" hR="3903" stAng="10800000" swAng="-5400000"/>
                <a:lnTo>
                  <a:pt x="17697" y="74674"/>
                </a:lnTo>
                <a:arcTo wR="3903" hR="3903" stAng="5400000" swAng="-5400000"/>
                <a:lnTo>
                  <a:pt x="21600" y="3903"/>
                </a:lnTo>
                <a:arcTo wR="3903" hR="3903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494000" y="2679840"/>
            <a:ext cx="3186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7442280" y="2603520"/>
            <a:ext cx="1052280" cy="3643200"/>
            <a:chOff x="7442280" y="2603520"/>
            <a:chExt cx="1052280" cy="3643200"/>
          </a:xfrm>
        </p:grpSpPr>
        <p:sp>
          <p:nvSpPr>
            <p:cNvPr id="957" name=""/>
            <p:cNvSpPr/>
            <p:nvPr/>
          </p:nvSpPr>
          <p:spPr>
            <a:xfrm>
              <a:off x="7442280" y="2603520"/>
              <a:ext cx="1052280" cy="3643200"/>
            </a:xfrm>
            <a:custGeom>
              <a:avLst/>
              <a:gdLst>
                <a:gd name="textAreaLeft" fmla="*/ 55440 w 1052280"/>
                <a:gd name="textAreaRight" fmla="*/ 996840 w 105228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65">
                  <a:moveTo>
                    <a:pt x="3903" y="0"/>
                  </a:moveTo>
                  <a:arcTo wR="3903" hR="3903" stAng="16200000" swAng="-5400000"/>
                  <a:lnTo>
                    <a:pt x="0" y="70862"/>
                  </a:lnTo>
                  <a:arcTo wR="3903" hR="3903" stAng="10800000" swAng="-5400000"/>
                  <a:lnTo>
                    <a:pt x="17697" y="74765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612920" y="4013280"/>
              <a:ext cx="65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2374920" y="266688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0400" y="2755800"/>
            <a:ext cx="18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S</a:t>
            </a: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ubl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2311560" y="535932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821400" y="5448240"/>
            <a:ext cx="165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D</a:t>
            </a: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e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A58D-A4BB-4916-BE0A-837EBCB3915A}" type="slidenum">
              <a:t>7</a:t>
            </a:fld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964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064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8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Property vs Chemical Proper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079640" y="2336760"/>
            <a:ext cx="7556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Physical Property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- property that can be observed or measured without changing the identity of the subst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079640" y="4305240"/>
            <a:ext cx="7556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Property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- </a:t>
            </a:r>
            <a:r>
              <a:rPr b="0" lang="en-US" sz="3000" spc="-1" strike="noStrike">
                <a:solidFill>
                  <a:srgbClr val="343434"/>
                </a:solidFill>
                <a:latin typeface="Arial"/>
                <a:ea typeface="Arial"/>
              </a:rPr>
              <a:t>property that cannot be observed without permanently altering the substance's ident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 fill="hold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 fill="hold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072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073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172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6" name=""/>
          <p:cNvSpPr/>
          <p:nvPr/>
        </p:nvSpPr>
        <p:spPr>
          <a:xfrm>
            <a:off x="1371600" y="735120"/>
            <a:ext cx="739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914400" y="2133720"/>
            <a:ext cx="7861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 of Physical Properti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1. Densit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2. Volum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3. Temperat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4. Lengt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5. Pressur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902840" y="3060720"/>
            <a:ext cx="297684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6. Melting Poin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7. Boiling Poi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8. Solubil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9. Concentratio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10. Energ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11. specific hea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 fill="hold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 fill="hold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 fill="hold"/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 fill="hold"/>
                                        <p:tgtEl>
                                          <p:spTgt spid="1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 fill="hold"/>
                                        <p:tgtEl>
                                          <p:spTgt spid="1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 fill="hold"/>
                                        <p:tgtEl>
                                          <p:spTgt spid="1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amczyk</dc:creator>
  <dc:description/>
  <dc:language>en-US</dc:language>
  <cp:lastModifiedBy/>
  <cp:revision>0</cp:revision>
  <dc:subject/>
  <dc:title>Matter and Change</dc:title>
</cp:coreProperties>
</file>